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4A6F-826F-4D38-96FA-20206512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0BFC-675B-42DD-9B40-93536F38D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4C4-5FE4-4079-925A-3043225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FEC-67F6-4AED-A4F7-F8728CEC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776-18FB-41DD-BC31-D1C154B3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57F-0987-487B-B43F-22183C0D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EEC-D163-4077-98F7-F6BF6D6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AAE-4CF9-412F-925A-41831F4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748-CBA0-4110-89D8-FD785921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CC6-9C5C-47A2-BDE3-1EE2C9A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A40-9575-4D32-A77E-4CF2179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221-D9F4-477D-ACE7-08DC8D68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A1C-53C2-4C0C-AC77-6D2B59A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C35-26C6-41CB-ACE9-29765E6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7EDC-A6A1-4730-956E-09516EDBE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619280"/>
            <a:ext cx="7924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Ethiopian Livestock Feed (ELF) Project </a:t>
            </a:r>
            <a:br>
              <a:rPr sz="2500"/>
            </a:br>
            <a:r>
              <a:rPr b="1" lang="en-US" sz="2900" spc="-1" strike="noStrike">
                <a:solidFill>
                  <a:srgbClr val="558ed5"/>
                </a:solidFill>
                <a:latin typeface="Calibri"/>
              </a:rPr>
              <a:t>FEAST Field Report - Sheep</a:t>
            </a: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944880" y="304920"/>
            <a:ext cx="1160640" cy="116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My Pictures\logos\eiar_logo.jpg"/>
          <p:cNvPicPr/>
          <p:nvPr/>
        </p:nvPicPr>
        <p:blipFill>
          <a:blip r:embed="rId2"/>
          <a:stretch/>
        </p:blipFill>
        <p:spPr>
          <a:xfrm>
            <a:off x="7620120" y="155520"/>
            <a:ext cx="920520" cy="146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My Pictures\logos\ARARI_logo.jpg"/>
          <p:cNvPicPr/>
          <p:nvPr/>
        </p:nvPicPr>
        <p:blipFill>
          <a:blip r:embed="rId3"/>
          <a:stretch/>
        </p:blipFill>
        <p:spPr>
          <a:xfrm>
            <a:off x="609480" y="279360"/>
            <a:ext cx="1219320" cy="1095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neberu Teferra, Solomon Gizaw, Lemma Yohanis, Shenkute Goshim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chalew Tsegah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1471680" y="257004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ividual Livestock Hol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verage Livestock Holdings and Uses  </a:t>
            </a:r>
            <a:br>
              <a:rPr sz="27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A Group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6200" y="1295280"/>
            <a:ext cx="8879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of Livestock Spe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: traditional livestock ho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ing practice: open grazing in communal areas and stall-f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processing: chopping of maize stover, preparation of mixed rations composed of molasses, noug cake and atela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practices vary according to the season; e.g. oxen are supplemented during Feb. to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ntity of Feed Purchased over a 12 month Period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M Content of Total Die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4" descr=""/>
          <p:cNvPicPr/>
          <p:nvPr/>
        </p:nvPicPr>
        <p:blipFill>
          <a:blip r:embed="rId1"/>
          <a:stretch/>
        </p:blipFill>
        <p:spPr>
          <a:xfrm>
            <a:off x="450720" y="1060560"/>
            <a:ext cx="8242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 Content of Total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242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put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redit service in the are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al credit and saving cooperative is yet to build its capacity to give credit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land shortage due to high population press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fallowing practice in the ar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cropping per year is practic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 like fertilizer (Urea and DAP), cement and irrigation equipments are available in the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ervices are not timely and of standard qua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Methodology: PRA and Individual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site/village: Godino Weg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district:  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: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participants present: 4 males and 1 fe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  14/03/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ime of PRA: 10:55 a.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 time of PRA:  12:25 p.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: 1:30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vailability of Fee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odder Crops Grown at Gud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603360" y="1365120"/>
            <a:ext cx="79372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minant Fodder Crops Grown at Gudin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eterinary Servi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veterinary services are inadequately supplied to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assistant veterinarian for the Keb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vernment Veterinary service is f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vet services are too expensive for the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reeding Servi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 of AI – not available adequately, serving large population with one technician and few equip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semen and AI service – Gov’t it is 23Birr/c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it is 210 Birr/c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repeat services – at least 3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bull services – it is about 100Birr but mostly with free if the farmer friendship is well recognized and the bull is mostly lo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Problems, Issues, Opportunities within the Livestock 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problems faced by farmers and opportunit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1:  Artificial insemination service (A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service should be available in time and AI technicians need to be on their work place as they are sometime not available when they are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it should be provided to farmer AI technicians who are already tr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2:  Improved breeding stock (cow, heif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level of improved cow/heifer from known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3: F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age Seed with affordable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(concentrate) with good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4: Advisory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with research and 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 experience sh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5:  Milk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capacity of local cooperative towards working in provision of input and use as the outlet of out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government to alleviate market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irwise Comparisons of Farmers’ Probl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35200" y="1371600"/>
            <a:ext cx="7318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irwise Comparisons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71884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85800" y="41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of milk as considered the most important problem, while livestock feeds was the least of their problems. Advisory service was not considered a problem at 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l Farming System 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931160" cy="4200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990720" y="1523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farm size (cultivable land) is 1.5 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household size is 7 per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24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fall pattern scored from 0 (not available) to 5 (highly avail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2819520"/>
          <a:ext cx="8686800" cy="1981080"/>
        </p:xfrm>
        <a:graphic>
          <a:graphicData uri="http://schemas.openxmlformats.org/drawingml/2006/table">
            <a:tbl>
              <a:tblPr/>
              <a:tblGrid>
                <a:gridCol w="762120"/>
                <a:gridCol w="574560"/>
                <a:gridCol w="668160"/>
                <a:gridCol w="668520"/>
                <a:gridCol w="668160"/>
                <a:gridCol w="668520"/>
                <a:gridCol w="666720"/>
                <a:gridCol w="668520"/>
                <a:gridCol w="668160"/>
                <a:gridCol w="668520"/>
                <a:gridCol w="668160"/>
                <a:gridCol w="668520"/>
                <a:gridCol w="668160"/>
              </a:tblGrid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onth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e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r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pr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u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e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ainf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infall Patter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pping Seasons at Godino Distric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219320"/>
          <a:ext cx="8915400" cy="2898720"/>
        </p:xfrm>
        <a:graphic>
          <a:graphicData uri="http://schemas.openxmlformats.org/drawingml/2006/table">
            <a:tbl>
              <a:tblPr/>
              <a:tblGrid>
                <a:gridCol w="860400"/>
                <a:gridCol w="511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0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ame 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as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e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r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pr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u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e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4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l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irr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h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228600" y="4540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rrigation is available to 85% of households through different land acquisition arrangements (rent, shar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854712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b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is available, mostly family labour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requirement peaks during October – January (peak harvest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 rate ranges  from 34 to 50 Birr per man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4% of the household members leave the farm for off-farm work or education da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44:44Z</dcterms:created>
  <dc:creator>toshiba</dc:creator>
  <dc:description/>
  <dc:language>en-US</dc:language>
  <cp:lastModifiedBy>PBallantyne</cp:lastModifiedBy>
  <dcterms:modified xsi:type="dcterms:W3CDTF">2012-03-21T10:36:28Z</dcterms:modified>
  <cp:revision>31</cp:revision>
  <dc:subject/>
  <dc:title>PRA report</dc:title>
</cp:coreProperties>
</file>